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6817-0DE6-4972-A26D-7FF9F59D7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F710-8582-41D2-9D47-C414A4E83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bed vid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C1FC-4DA0-4084-A014-E240653D7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8F3E-5ED5-4A8D-8308-4F7734CF2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341360"/>
            <a:ext cx="69343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5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Leader Training, Event Passports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fety &amp; Risk Assess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920" y="2491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scuss the best ways you’ve found to complete your ongo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sk 1 Outcome – Main The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nted clarity over what was expected from them and what type of things counted as ongoing learning (see factsheet in web documents list for a good expla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made to use Training Advisor (TA) to record ongoing learning so that it is not jut ignored and people know what they need to do so it is a formal record a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2 – Discuss the best ways to make completing their wood badge more straightforward for new ES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134136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2 Outcomes – Main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773360"/>
            <a:ext cx="7608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identified access to Training Advisor (TA) and 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1:1 talk to identify training required and explain options for complet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ing from Leaders who have achieved their Wood Ba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ojects to new Leaders based on the train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ining courses on both weekday evenings and week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modules across all Districts to reduce trave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y of training dates attached to your initial training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TA’s who can break down the totality into bite sized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’s who make it easy e.g. they are the experts and explain exactly what you have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pecific Explorer Leader training (how to get young people to obtain/work towards being activity leads etc) only ever a couple of ESL’s on training events – “conversation learning” is very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vent Pass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vent passport sc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– Discuss how you currently use or how you plan to use the event passport scheme to increase the independence of your Explorers within your Units/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628640"/>
            <a:ext cx="693432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isk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2276640"/>
            <a:ext cx="69343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scuss in your groups how you go about risk assessments currently and together write a risk assessmen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ommercial tri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activity in a tow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ytime activity on a camp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3-04T13:24:04Z</dcterms:modified>
  <cp:revision>139</cp:revision>
  <dc:subject/>
  <dc:title>Your title here</dc:title>
</cp:coreProperties>
</file>